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6612-34A2-43CA-8748-2A23968F2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7057-B172-4FE1-AA9E-F2CBD217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in groups of 3. What does this help us understand about student wri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1A40-E38A-4362-910E-B086A3979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8 min = 10:15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7B22-13B2-4117-A7D1-81770B389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1C4B-EB30-4ADE-8655-0413BD331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68EF-CBC5-4A3F-A5EC-D967D8D3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EC52-28E4-4226-8DDA-76809AAED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7160-4669-4495-BB70-C82E3FF51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A6CD-838C-424A-BFBB-AB3873C65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D921-1010-461B-8208-6C66DE5B9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FAFE-AEEC-47BE-88E3-F2C9B41C0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3F19-4C11-440D-9FC5-B59188E99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F99E-7A78-42DA-A392-BE2686C02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76CE-4AA2-4D6E-B89B-3C5D6647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2B2C-18C0-434A-B888-196115F79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F0A4-8A39-4A7B-A13D-7BE19169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5432-1DA0-464E-8D5D-ED958B97C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399A-C27E-4EEA-9E23-28DFA2DDB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need to be sure to get good notes o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0394-2E66-4413-9D21-F88CBD360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62C9-1D35-4866-9AD6-2CDE3D7AD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good notes o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ED09-1788-4611-B02A-A03095E47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7D59-41B0-4676-B05E-A2EFBBE4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D4E8-C2D0-466A-BD7E-E8CB8AA3B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 prompt, creating a list, discu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3FF2-5A88-4E4E-B9A0-C68E0EDC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3A6C-F27F-406F-B306-E598EE2CA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60D6-36EE-4285-A661-B9E7F42FD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ECA8-95B6-41A1-A8FE-B3E6773D0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C9D5-614B-42CF-A704-9525E3FBD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2ACC-ADBC-4543-851F-E3ADDBECA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EBCB-F176-462C-B518-12F32A621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FFE3-1BAE-4BFB-AD57-77FB9345C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0749-4F3B-4F7C-9098-06679B9F8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A540-34E5-4E20-8D58-371BBC6DE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D7EB-BB46-4945-9852-5F2E5A7B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7CDA-46AF-4A34-9D33-1E8D9B2AE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18C1-FE68-4B20-B047-677B82F73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4C2C-AC24-46FF-A608-6246EF493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16D3-AFAC-4ADD-81C2-27E1FC55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C577-C71F-4F36-B784-E219AD7A4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B092-7DBF-4571-BAB0-6EDF6C92F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0CBC-8C15-401C-93A7-6E2532FAC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8BC9-7FBF-472E-AA3E-3D2E3C081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E730-2DC2-4803-9A38-42241EB49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77AD-DE7D-4E5D-A3C3-95C884048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EB36-5D4D-4FC0-B0E1-AC491FBD4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B96E-D6B5-4CCA-B00E-82B600100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18CC-9C5A-4D05-A128-375912583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9EA3-9B69-4EBE-825F-DCFBB9413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196F-47BE-4C1F-80B4-CBDDEA40D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FC5D-5A09-40E5-A32E-732C55C53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BA2-1063-4C37-A345-66A8E741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3FF-1DF9-4367-90A5-F92B660A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9EC-699F-4119-82A8-4032E4E8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9A7-40CD-4681-BA48-F7E92227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831-1B54-4BA8-BCEE-4433C31E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743-862F-4279-BA23-AFE68DDC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60E-D01B-4111-B4FE-5A3BBCE0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8C4-A9F1-483F-A657-D5B2E1DE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997-4C11-4A8F-8243-C8DA289C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665-377A-499C-991F-36E81703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6E3-46D0-4D3F-95F9-63B2C2BD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9F8-3F86-4EC3-BEBD-D0B9B7CD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750-845E-449D-88B8-F41FB1B13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ers/amkohnen/Dropbox/Missouri%20State/OWP/i3/Monett%20PD/2013.11.18/group%20characteristics%20of%20effective%20writing.doc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3 grant: College-Ready Writ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3040" y="3889440"/>
            <a:ext cx="639792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Session 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Mone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November 18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OWP Icon"/>
          <p:cNvPicPr/>
          <p:nvPr/>
        </p:nvPicPr>
        <p:blipFill>
          <a:blip r:embed="rId1"/>
          <a:stretch/>
        </p:blipFill>
        <p:spPr>
          <a:xfrm>
            <a:off x="3048120" y="762120"/>
            <a:ext cx="2946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we get star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512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atulations to DeAnn Crawford and Colleen Appel on their accepted proposal for the Write to Learn conference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 Priz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OWP Icon"/>
          <p:cNvPicPr/>
          <p:nvPr/>
        </p:nvPicPr>
        <p:blipFill>
          <a:blip r:embed="rId1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inder: Rules of Free-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your hand moving until the time is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no attention to grammar, spelling, punctuation, neatness, or sty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get off the topic or run out of ideas, keep writing any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time is up, look over what you've written, and mark passages that contain ideas or phrases that might be worth sharing or elaborating on l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OWP Icon"/>
          <p:cNvPicPr/>
          <p:nvPr/>
        </p:nvPicPr>
        <p:blipFill>
          <a:blip r:embed="rId1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OWP Icon"/>
          <p:cNvPicPr/>
          <p:nvPr/>
        </p:nvPicPr>
        <p:blipFill>
          <a:blip r:embed="rId1"/>
          <a:stretch/>
        </p:blipFill>
        <p:spPr>
          <a:xfrm>
            <a:off x="6756480" y="5799240"/>
            <a:ext cx="2408040" cy="1058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into the D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isibl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new word document and set the font color to “wh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-w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the physical conditions for your writing. Where do you write? When? What implements do you prefer? Do you need silence or do you have music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uthen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Read the chapter excerpt and mark passages using this coding strategy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squares with my thi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I wonder about th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new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OWP Icon"/>
          <p:cNvPicPr/>
          <p:nvPr/>
        </p:nvPicPr>
        <p:blipFill>
          <a:blip r:embed="rId1"/>
          <a:stretch/>
        </p:blipFill>
        <p:spPr>
          <a:xfrm>
            <a:off x="6400800" y="548640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90" name="Action Button: Custom 4"/>
          <p:cNvSpPr/>
          <p:nvPr/>
        </p:nvSpPr>
        <p:spPr>
          <a:xfrm>
            <a:off x="1600200" y="28195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6" descr=""/>
          <p:cNvPicPr/>
          <p:nvPr/>
        </p:nvPicPr>
        <p:blipFill>
          <a:blip r:embed="rId2"/>
          <a:stretch/>
        </p:blipFill>
        <p:spPr>
          <a:xfrm>
            <a:off x="1249200" y="3309840"/>
            <a:ext cx="1360800" cy="1567080"/>
          </a:xfrm>
          <a:prstGeom prst="rect">
            <a:avLst/>
          </a:prstGeom>
          <a:ln w="0">
            <a:noFill/>
          </a:ln>
        </p:spPr>
      </p:pic>
      <p:sp>
        <p:nvSpPr>
          <p:cNvPr id="92" name="Plus 7"/>
          <p:cNvSpPr/>
          <p:nvPr/>
        </p:nvSpPr>
        <p:spPr>
          <a:xfrm>
            <a:off x="1447920" y="4419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Rectangle 8" descr=""/>
          <p:cNvPicPr/>
          <p:nvPr/>
        </p:nvPicPr>
        <p:blipFill>
          <a:blip r:embed="rId3"/>
          <a:stretch/>
        </p:blipFill>
        <p:spPr>
          <a:xfrm>
            <a:off x="1298520" y="5138640"/>
            <a:ext cx="11588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someone next to yo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ontinue the discussion: what does “authenticity”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your curriculum or assignments become more “authentic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ular Callout 4"/>
          <p:cNvSpPr/>
          <p:nvPr/>
        </p:nvSpPr>
        <p:spPr>
          <a:xfrm>
            <a:off x="2362320" y="1600200"/>
            <a:ext cx="3047760" cy="24382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590920" y="190512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sh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 of the Day: Authent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thing in school can be “authentic”—but let’s let this concept linger in the background today as we think about assignments and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ing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ing for Consulta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moment to think about your curriculum for the rest of this semester or for second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might you incorporate something new/different/revised based on this professional develop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eedback would you like as you think through these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ing for Consulta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your ideas in the form of a “dilem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1-2 questions for your group to con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ltancy Protocol and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protocol to remember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keep time in your groups and adhere to the 15 mins/presenter tim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move into some planning time from here and reconvene at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enjoy food and cof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gle and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issing from this l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: what words do you use that you would like to add to the list so others are using them the same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Respect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inary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rds related to writing, research, or argumentation have very specific definitions in your field that you would like others to know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: what words on this list need specific disciplinary/content-area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: what words related to your discipline/content-area would you like to add to this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mpile these and put them on the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have a hard copy in beautiful laminated form at our nex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57200" y="137160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about Writing Assig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aracteristics of an effective writ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WP’s Writing Assignment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examine the NW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fferences do you notice between your own thinking and the NWP fra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things the NWP Framework is mi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se ideas to reflect on your own assignment/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etly read and revise your own writing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vise, consider incorporating ideas from the common language list into your assignment/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quietly thinking and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a small group to discuss ideas and plan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one of the facilitators for individual discussion/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me together for morning closure at 12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ning Closure: L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457200" y="990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457200" y="990720"/>
            <a:ext cx="82296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reconvene at 1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uate Students: Please complete a course evaluation form before 1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-da-bing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your feet 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saw (heard, touc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you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th?id=H"/>
          <p:cNvPicPr/>
          <p:nvPr/>
        </p:nvPicPr>
        <p:blipFill>
          <a:blip r:embed="rId1"/>
          <a:stretch/>
        </p:blipFill>
        <p:spPr>
          <a:xfrm>
            <a:off x="601992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?id=H"/>
          <p:cNvPicPr/>
          <p:nvPr/>
        </p:nvPicPr>
        <p:blipFill>
          <a:blip r:embed="rId2"/>
          <a:stretch/>
        </p:blipFill>
        <p:spPr>
          <a:xfrm>
            <a:off x="6934320" y="2743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th?id=H"/>
          <p:cNvPicPr/>
          <p:nvPr/>
        </p:nvPicPr>
        <p:blipFill>
          <a:blip r:embed="rId3"/>
          <a:stretch/>
        </p:blipFill>
        <p:spPr>
          <a:xfrm>
            <a:off x="6095880" y="4114800"/>
            <a:ext cx="1447920" cy="127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OWP Icon"/>
          <p:cNvPicPr/>
          <p:nvPr/>
        </p:nvPicPr>
        <p:blipFill>
          <a:blip r:embed="rId4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n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tter Answers Gam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ed by Colleen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ur next session, please bring samples of student work from this semester. These should be samples of work that makes you wonder—because it is really good, really off-target, really puzzling, really different, really challeng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, also bring in the assignmen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430200" y="1219320"/>
            <a:ext cx="8408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onsent fo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Lesson Sign 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Learn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Priz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430200" y="1219320"/>
            <a:ext cx="8408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ession: Jan 20, 1:00-3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30200" y="1219320"/>
            <a:ext cx="8408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ding to your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57200" y="12952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you lik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strategies to use in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 to plan and talk with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ing of the day (mos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sugg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does not happen over lunc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activities were too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OWP Icon"/>
          <p:cNvPicPr/>
          <p:nvPr/>
        </p:nvPicPr>
        <p:blipFill>
          <a:blip r:embed="rId1"/>
          <a:stretch/>
        </p:blipFill>
        <p:spPr>
          <a:xfrm>
            <a:off x="6756480" y="579924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where you want to go next with writing in your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ork on developing a common vocabulary around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vise a writing assignment/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the role of smaller writing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the word of the day: authen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57200" y="685800"/>
            <a:ext cx="815328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will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the day with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and discuss an article about authen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hrough a consultancy protocol to talk about curriculum and spend some tim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gle and Trade with writing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framework for discussing writ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 The Better Answers Gam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OWP Icon"/>
          <p:cNvPicPr/>
          <p:nvPr/>
        </p:nvPicPr>
        <p:blipFill>
          <a:blip r:embed="rId1"/>
          <a:stretch/>
        </p:blipFill>
        <p:spPr>
          <a:xfrm>
            <a:off x="6724800" y="579924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/Non-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685800" y="1676520"/>
            <a:ext cx="82296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o think about embedding well-constructed writing assignments into our curriculum in large and small ways; to continue to develop our shared sense of purpose and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on-Purpos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ompletely finalize a writing assignment; to ignore differences in our content area approaches to wri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OWP Icon"/>
          <p:cNvPicPr/>
          <p:nvPr/>
        </p:nvPicPr>
        <p:blipFill>
          <a:blip r:embed="rId1"/>
          <a:stretch/>
        </p:blipFill>
        <p:spPr>
          <a:xfrm>
            <a:off x="6724800" y="577368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th?id=H"/>
          <p:cNvPicPr/>
          <p:nvPr/>
        </p:nvPicPr>
        <p:blipFill>
          <a:blip r:embed="rId1"/>
          <a:stretch/>
        </p:blipFill>
        <p:spPr>
          <a:xfrm>
            <a:off x="5562720" y="457200"/>
            <a:ext cx="2971800" cy="2239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04920" y="17524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your name to the sign-in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ase set cell phones to vib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l comfortable stepping outside when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king Lo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your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OWP Icon"/>
          <p:cNvPicPr/>
          <p:nvPr/>
        </p:nvPicPr>
        <p:blipFill>
          <a:blip r:embed="rId2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tart and end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hare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bide by the protoc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be enthusiastic about new writing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hare ideas and collaborate with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rovide a safe environment for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encourage one another and respectfully acknowledge each other'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OWP Icon"/>
          <p:cNvPicPr/>
          <p:nvPr/>
        </p:nvPicPr>
        <p:blipFill>
          <a:blip r:embed="rId1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20:18:10Z</dcterms:created>
  <dc:creator>Colleen</dc:creator>
  <dc:description/>
  <dc:language>en-US</dc:language>
  <cp:lastModifiedBy>andrew</cp:lastModifiedBy>
  <cp:lastPrinted>2013-10-18T10:33:29Z</cp:lastPrinted>
  <dcterms:modified xsi:type="dcterms:W3CDTF">2013-11-17T18:56:23Z</dcterms:modified>
  <cp:revision>179</cp:revision>
  <dc:subject/>
  <dc:title>i3 grant: College-Ready Writers</dc:title>
</cp:coreProperties>
</file>